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19.jpeg" ContentType="image/jpeg"/>
  <Override PartName="/ppt/media/image24.wmf" ContentType="image/x-wmf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31.jpeg" ContentType="image/jpeg"/>
  <Override PartName="/ppt/media/image41.png" ContentType="image/png"/>
  <Override PartName="/ppt/media/image43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AEB8-B8BF-45F9-BE39-935E36682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087E-0829-4402-B709-D912EB32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8336-3861-484D-A72F-AD8176CD1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0637-DA7B-4947-8992-4742747A8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F602-B754-42F3-84A6-DC71E4E5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A5B8-7B7B-4863-BAC3-5D687F499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46C8-D16D-4669-96F0-647676CD9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14B-F10C-45CF-8C7A-CA28A0F3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D8C-AD99-4CC1-B37A-A277EDBB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1FD-28D8-4850-AFF9-96757F6B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8CB-D69A-4D49-A9A1-7A8E862C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A516-262F-4102-95AC-F6F671BD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982A-E254-45E7-8263-C687AE02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17A9-C321-4B2B-888B-F40D3FB8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B24A-52AB-43A9-B312-5D60B5FC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B5D6-44CF-4B1B-A9BE-060F5CD4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2B2F-4D49-49BC-9F0E-A09B8C0F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79F2-0A10-4B78-BA7C-49719C53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CA3-FC0F-44DE-A21A-13EC88E5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0CEA-3358-40B8-AA4C-9A29092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3333-E852-472E-A8C2-876E321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238E-40E8-419C-9B20-DF11788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E865-0C2A-4595-9A2C-1ED36A23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5E7F-39AB-45FF-B51C-3B15C7B0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395-AAE4-4C5B-9327-3FBCB166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2A6-B467-449A-8A6A-47FC4159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B19-663E-4E8F-8630-EA4C4AE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625-2855-4333-B262-9B9E03AC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254-9246-48FC-9D06-2A7B9B9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DFE-4B33-4559-A3EF-0C738B5C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F5B-DE62-4309-BA94-4022941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AC49-E583-4C35-8B62-B521C70A9F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1B25-0C66-4FCE-9529-246EFBF467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png"/><Relationship Id="rId15" Type="http://schemas.openxmlformats.org/officeDocument/2006/relationships/image" Target="../media/image38.jpeg"/><Relationship Id="rId16" Type="http://schemas.openxmlformats.org/officeDocument/2006/relationships/image" Target="../media/image39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D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February 15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Pinetree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4" name="Picture 8" descr="MCj03126460000[1]"/>
          <p:cNvPicPr/>
          <p:nvPr/>
        </p:nvPicPr>
        <p:blipFill>
          <a:blip r:embed="rId1"/>
          <a:stretch/>
        </p:blipFill>
        <p:spPr>
          <a:xfrm>
            <a:off x="3635280" y="2276640"/>
            <a:ext cx="2071800" cy="21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>
            <a:off x="5867280" y="414972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35676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4427640" y="4365720"/>
            <a:ext cx="1191960" cy="1208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images3.jpg"/>
          <p:cNvPicPr/>
          <p:nvPr/>
        </p:nvPicPr>
        <p:blipFill>
          <a:blip r:embed="rId5"/>
          <a:stretch/>
        </p:blipFill>
        <p:spPr>
          <a:xfrm>
            <a:off x="468360" y="321300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images.jpg"/>
          <p:cNvPicPr/>
          <p:nvPr/>
        </p:nvPicPr>
        <p:blipFill>
          <a:blip r:embed="rId6"/>
          <a:stretch/>
        </p:blipFill>
        <p:spPr>
          <a:xfrm rot="954000">
            <a:off x="6519600" y="8524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imagesCAKTRLBD.jpg"/>
          <p:cNvPicPr/>
          <p:nvPr/>
        </p:nvPicPr>
        <p:blipFill>
          <a:blip r:embed="rId7"/>
          <a:stretch/>
        </p:blipFill>
        <p:spPr>
          <a:xfrm>
            <a:off x="2843280" y="5322960"/>
            <a:ext cx="1700280" cy="153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imagesCAOEUU8Y.jpg"/>
          <p:cNvPicPr/>
          <p:nvPr/>
        </p:nvPicPr>
        <p:blipFill>
          <a:blip r:embed="rId8"/>
          <a:stretch/>
        </p:blipFill>
        <p:spPr>
          <a:xfrm>
            <a:off x="4211640" y="981000"/>
            <a:ext cx="2039760" cy="122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imagesCARU5IA8.jpg"/>
          <p:cNvPicPr/>
          <p:nvPr/>
        </p:nvPicPr>
        <p:blipFill>
          <a:blip r:embed="rId9"/>
          <a:stretch/>
        </p:blipFill>
        <p:spPr>
          <a:xfrm rot="20506800">
            <a:off x="517680" y="193320"/>
            <a:ext cx="1471320" cy="147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imagesCA7FS46N.jpg"/>
          <p:cNvPicPr/>
          <p:nvPr/>
        </p:nvPicPr>
        <p:blipFill>
          <a:blip r:embed="rId10"/>
          <a:stretch/>
        </p:blipFill>
        <p:spPr>
          <a:xfrm rot="1389000">
            <a:off x="7667280" y="53006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imagesCAN03YNH.jpg"/>
          <p:cNvPicPr/>
          <p:nvPr/>
        </p:nvPicPr>
        <p:blipFill>
          <a:blip r:embed="rId11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imagesCAV824PJ.jpg"/>
          <p:cNvPicPr/>
          <p:nvPr/>
        </p:nvPicPr>
        <p:blipFill>
          <a:blip r:embed="rId12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imagesCAOF6IPG.jpg"/>
          <p:cNvPicPr/>
          <p:nvPr/>
        </p:nvPicPr>
        <p:blipFill>
          <a:blip r:embed="rId13"/>
          <a:stretch/>
        </p:blipFill>
        <p:spPr>
          <a:xfrm>
            <a:off x="7596360" y="263700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5" descr="untitlewd.bmp"/>
          <p:cNvPicPr/>
          <p:nvPr/>
        </p:nvPicPr>
        <p:blipFill>
          <a:blip r:embed="rId14"/>
          <a:stretch/>
        </p:blipFill>
        <p:spPr>
          <a:xfrm>
            <a:off x="1763640" y="1268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imagesCA71CM7J.jpg"/>
          <p:cNvPicPr/>
          <p:nvPr/>
        </p:nvPicPr>
        <p:blipFill>
          <a:blip r:embed="rId15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imagesCAW4N5TV.jpg"/>
          <p:cNvPicPr/>
          <p:nvPr/>
        </p:nvPicPr>
        <p:blipFill>
          <a:blip r:embed="rId16"/>
          <a:stretch/>
        </p:blipFill>
        <p:spPr>
          <a:xfrm>
            <a:off x="1116000" y="4076640"/>
            <a:ext cx="224784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900000" y="1557360"/>
            <a:ext cx="763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BartSlrg_twt_reasonably_small.jpg"/>
          <p:cNvPicPr/>
          <p:nvPr/>
        </p:nvPicPr>
        <p:blipFill>
          <a:blip r:embed="rId1"/>
          <a:stretch/>
        </p:blipFill>
        <p:spPr>
          <a:xfrm>
            <a:off x="6012000" y="148428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y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92d050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Responsible E-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78552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Pro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YouTube videos, case-based scenarios, teachable mome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2916360" y="2924280"/>
            <a:ext cx="5854680" cy="3660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images.jpg"/>
          <p:cNvPicPr/>
          <p:nvPr/>
        </p:nvPicPr>
        <p:blipFill>
          <a:blip r:embed="rId3"/>
          <a:stretch/>
        </p:blipFill>
        <p:spPr>
          <a:xfrm>
            <a:off x="3348000" y="0"/>
            <a:ext cx="2736720" cy="10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68280"/>
            <a:ext cx="777888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 Facebook? MySpa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Blackberry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video ga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facebook-mobile.jpg"/>
          <p:cNvPicPr/>
          <p:nvPr/>
        </p:nvPicPr>
        <p:blipFill>
          <a:blip r:embed="rId1"/>
          <a:stretch/>
        </p:blipFill>
        <p:spPr>
          <a:xfrm>
            <a:off x="7020000" y="4005360"/>
            <a:ext cx="138888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more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/are your computers in your 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pla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your Children’s 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ha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ir child about Internet Safety or Cyberbully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has adop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ly 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children around online/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761760"/>
            <a:ext cx="889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gain a better understanding of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o our children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our awaren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potential challenges around technology u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ractical, proactive parenting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connections with your children around technolog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Terminator%202"/>
          <p:cNvPicPr/>
          <p:nvPr/>
        </p:nvPicPr>
        <p:blipFill>
          <a:blip r:embed="rId1"/>
          <a:stretch/>
        </p:blipFill>
        <p:spPr>
          <a:xfrm>
            <a:off x="5580000" y="1125360"/>
            <a:ext cx="2592360" cy="39164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C:\Users\dsands\AppData\Local\Microsoft\Windows\Temporary Internet Files\Content.IE5\D6IV12U4\MC900434595[1].wmf"/>
          <p:cNvPicPr/>
          <p:nvPr/>
        </p:nvPicPr>
        <p:blipFill>
          <a:blip r:embed="rId2"/>
          <a:stretch/>
        </p:blipFill>
        <p:spPr>
          <a:xfrm>
            <a:off x="1908000" y="4437000"/>
            <a:ext cx="2543400" cy="195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chool District 43</cp:lastModifiedBy>
  <dcterms:modified xsi:type="dcterms:W3CDTF">2011-02-15T23:36:53Z</dcterms:modified>
  <cp:revision>76</cp:revision>
  <dc:subject/>
  <dc:title>Technology, kids and you</dc:title>
</cp:coreProperties>
</file>